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AA1-DCDD-40E1-BF5D-AA53A339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150-EF86-4B77-A431-C2BA2227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E5D-B657-45C2-AC70-A3E830DA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CE2-2ED4-4CB3-A775-628AE14A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CB37-5D26-40E4-92ED-1D88B80A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7DFC-DC1B-43D7-BD22-7C18495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78BD-75EC-4256-A3E4-E42BB4B6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351C-0058-448A-A8BE-0C30C663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B840-3533-4F79-ACC7-A322B53F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27F4-9BD0-4164-8F67-11A264F7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0FB0-846D-45EE-982D-CE8BC53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807-528C-4F4D-BF0F-9FE82C34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9AAF-CDA9-4D58-A7CB-F28AC4B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68C7-9284-4E57-82FB-3222020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0BF6-5D1C-461D-B19D-09A1D541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7F06-8952-40C1-9749-A8B332E4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6622-F5BC-4B9F-8661-700BA587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F59-DF9A-4116-9526-4B77D42A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8D6-FABA-4312-97B7-7DA5B7E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1D2-16D7-4EB7-BBDD-1A576605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3F3-3E4D-4066-A02C-58BD43D1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0B4-68DC-4C95-867E-098C0A0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469-76DE-4A48-8812-D403187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802-BB0E-4FD4-A892-342AB84E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D08D-7337-4955-9801-6A53FA90772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9ADE-395C-41A5-AD3E-E68F14001EA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8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d3333"/>
                </a:solidFill>
                <a:latin typeface="Georgia"/>
              </a:rPr>
              <a:t>Антропогенез</a:t>
            </a:r>
            <a:endParaRPr b="0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170028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2000"/>
                </a:solidFill>
                <a:latin typeface="Arial"/>
              </a:rPr>
              <a:t>Доказательства происхождения человека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2000"/>
                </a:solidFill>
                <a:latin typeface="Arial"/>
              </a:rPr>
              <a:t>от животн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80360" y="4724280"/>
            <a:ext cx="157140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573a1d"/>
                </a:solidFill>
                <a:latin typeface="Georgia"/>
              </a:rPr>
              <a:t>Эмбриологические</a:t>
            </a:r>
            <a:br>
              <a:rPr sz="4600"/>
            </a:br>
            <a:r>
              <a:rPr b="1" i="1" lang="ru-RU" sz="4600" spc="-1" strike="noStrike">
                <a:solidFill>
                  <a:srgbClr val="573a1d"/>
                </a:solidFill>
                <a:latin typeface="Georgia"/>
              </a:rPr>
              <a:t>доказательства</a:t>
            </a: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4000320" cy="47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08000" y="476280"/>
            <a:ext cx="5977080" cy="1224000"/>
          </a:xfrm>
          <a:prstGeom prst="roundRect">
            <a:avLst>
              <a:gd name="adj" fmla="val 50000"/>
            </a:avLst>
          </a:prstGeom>
          <a:solidFill>
            <a:srgbClr val="ce9964">
              <a:alpha val="9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Факторы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эволюции человек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781360"/>
            <a:ext cx="3600360" cy="143964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Биологи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2781360"/>
            <a:ext cx="3600720" cy="143964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Социаль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42920" y="1700280"/>
            <a:ext cx="934920" cy="1081080"/>
          </a:xfrm>
          <a:prstGeom prst="line">
            <a:avLst/>
          </a:prstGeom>
          <a:ln w="381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1700280"/>
            <a:ext cx="936360" cy="1081080"/>
          </a:xfrm>
          <a:prstGeom prst="line">
            <a:avLst/>
          </a:prstGeom>
          <a:ln w="38160">
            <a:solidFill>
              <a:srgbClr val="402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254" t="28974" r="1283" b="25908"/>
          <a:stretch/>
        </p:blipFill>
        <p:spPr>
          <a:xfrm>
            <a:off x="2050920" y="4581360"/>
            <a:ext cx="5545440" cy="192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pull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те себя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акое значение в происхождении человека имело прямохождение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 каких районах Земли произошло появление рода Человек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чему австралопитеки не относятся к роду Человек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75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d3333"/>
                </a:solidFill>
                <a:latin typeface="Georgia"/>
              </a:rPr>
              <a:t>Домашнее задание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03728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§</a:t>
            </a:r>
            <a:r>
              <a:rPr b="0" lang="ru-RU" sz="4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62 – учить,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§</a:t>
            </a:r>
            <a:r>
              <a:rPr b="0" lang="ru-RU" sz="4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43 – повторить.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5373720"/>
            <a:ext cx="22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Wingdings"/>
                <a:ea typeface="Wingdings"/>
              </a:rPr>
              <a:t>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2000"/>
                </a:solidFill>
                <a:latin typeface="Wingdings"/>
                <a:ea typeface="Wingdings"/>
              </a:rPr>
              <a:t>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2000"/>
                </a:solidFill>
                <a:latin typeface="Wingdings"/>
                <a:ea typeface="Wingdings"/>
              </a:rPr>
              <a:t>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000" y="2708280"/>
            <a:ext cx="8218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знакомиться с особенностями происхождения и развития человек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лучение новых знаний об антропогенезе, этапах эволюции человек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казать взаимосвязь биологических и социальных факторов антропогенез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ыделить основные этапы в эволюции человека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ссмотреть вопрос о происхождении рас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ить анализировать факты в определённой логической последовательности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тимулировать развитие познавательного интереса к науке биологии и вопросу происхождения челове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456840"/>
            <a:ext cx="757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02000"/>
                </a:solidFill>
                <a:latin typeface="Georgia"/>
              </a:rPr>
              <a:t>Антропогенез -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1484280"/>
            <a:ext cx="7561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573a1d"/>
                </a:solidFill>
                <a:latin typeface="Times New Roman"/>
              </a:rPr>
              <a:t>- процесс эволюционного происхождения и развития вида </a:t>
            </a:r>
            <a:r>
              <a:rPr b="0" i="1" lang="ru-RU" sz="3800" spc="-1" strike="noStrike">
                <a:solidFill>
                  <a:srgbClr val="573a1d"/>
                </a:solidFill>
                <a:latin typeface="Times New Roman"/>
              </a:rPr>
              <a:t>Человек разумный</a:t>
            </a:r>
            <a:r>
              <a:rPr b="0" lang="ru-RU" sz="3800" spc="-1" strike="noStrike">
                <a:solidFill>
                  <a:srgbClr val="573a1d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573a1d"/>
                </a:solidFill>
                <a:latin typeface="Times New Roman"/>
              </a:rPr>
              <a:t>(Homo sapiens)</a:t>
            </a:r>
            <a:r>
              <a:rPr b="0" lang="ru-RU" sz="3800" spc="-1" strike="noStrike">
                <a:solidFill>
                  <a:srgbClr val="573a1d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184720" cy="367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58920" y="1915920"/>
            <a:ext cx="74851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2000"/>
                </a:solidFill>
                <a:latin typeface="Times New Roman"/>
              </a:rPr>
              <a:t>Какие существуют доказательства эволюции?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72360" y="4722840"/>
            <a:ext cx="195552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3640" y="549360"/>
            <a:ext cx="6193080" cy="1366920"/>
          </a:xfrm>
          <a:prstGeom prst="roundRect">
            <a:avLst>
              <a:gd name="adj" fmla="val 50000"/>
            </a:avLst>
          </a:prstGeom>
          <a:solidFill>
            <a:srgbClr val="ce9964">
              <a:alpha val="9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Доказательств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антропогенез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068640"/>
            <a:ext cx="3457800" cy="144000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Палеонто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логи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4941720"/>
            <a:ext cx="4319640" cy="144000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Сравнительно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анатоми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3068640"/>
            <a:ext cx="3529080" cy="1440000"/>
          </a:xfrm>
          <a:prstGeom prst="roundRect">
            <a:avLst>
              <a:gd name="adj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Эмбрио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Georgia"/>
              </a:rPr>
              <a:t>логи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1916280"/>
            <a:ext cx="0" cy="3025440"/>
          </a:xfrm>
          <a:prstGeom prst="line">
            <a:avLst/>
          </a:prstGeom>
          <a:ln w="25560">
            <a:solidFill>
              <a:srgbClr val="402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700000" y="1916280"/>
            <a:ext cx="934920" cy="1152360"/>
          </a:xfrm>
          <a:prstGeom prst="line">
            <a:avLst/>
          </a:prstGeom>
          <a:ln w="25560">
            <a:solidFill>
              <a:srgbClr val="402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916280"/>
            <a:ext cx="936720" cy="1152360"/>
          </a:xfrm>
          <a:prstGeom prst="line">
            <a:avLst/>
          </a:prstGeom>
          <a:ln w="25560">
            <a:solidFill>
              <a:srgbClr val="402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614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573a1d"/>
                </a:solidFill>
                <a:latin typeface="Georgia"/>
              </a:rPr>
              <a:t>Палеонтологические</a:t>
            </a:r>
            <a:br>
              <a:rPr sz="4600"/>
            </a:br>
            <a:r>
              <a:rPr b="1" i="1" lang="ru-RU" sz="4600" spc="-1" strike="noStrike">
                <a:solidFill>
                  <a:srgbClr val="573a1d"/>
                </a:solidFill>
                <a:latin typeface="Georgia"/>
              </a:rPr>
              <a:t>доказательства</a:t>
            </a: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5060" t="68496" r="37533" b="3591"/>
          <a:stretch/>
        </p:blipFill>
        <p:spPr>
          <a:xfrm>
            <a:off x="1116000" y="3860640"/>
            <a:ext cx="4032360" cy="261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67358" t="2583" r="3626" b="42136"/>
          <a:stretch/>
        </p:blipFill>
        <p:spPr>
          <a:xfrm>
            <a:off x="5443560" y="1773360"/>
            <a:ext cx="3376440" cy="482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2921040" cy="200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244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573a1d"/>
                </a:solidFill>
                <a:latin typeface="Georgia"/>
              </a:rPr>
              <a:t>Сравнительно-анатомические</a:t>
            </a:r>
            <a:br>
              <a:rPr sz="3500"/>
            </a:br>
            <a:r>
              <a:rPr b="1" i="1" lang="ru-RU" sz="3500" spc="-1" strike="noStrike">
                <a:solidFill>
                  <a:srgbClr val="573a1d"/>
                </a:solidFill>
                <a:latin typeface="Georgia"/>
              </a:rPr>
              <a:t>доказательства</a:t>
            </a:r>
            <a:endParaRPr b="0" lang="en-US" sz="35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39641"/>
          <a:stretch/>
        </p:blipFill>
        <p:spPr>
          <a:xfrm>
            <a:off x="1042920" y="2997360"/>
            <a:ext cx="7704360" cy="310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94880" y="191628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1562b"/>
                </a:solidFill>
                <a:latin typeface="Times New Roman"/>
              </a:rPr>
              <a:t>Рудимент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244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573a1d"/>
                </a:solidFill>
                <a:latin typeface="Georgia"/>
              </a:rPr>
              <a:t>Сравнительно-анатомические</a:t>
            </a:r>
            <a:br>
              <a:rPr sz="3500"/>
            </a:br>
            <a:r>
              <a:rPr b="1" i="1" lang="ru-RU" sz="3500" spc="-1" strike="noStrike">
                <a:solidFill>
                  <a:srgbClr val="573a1d"/>
                </a:solidFill>
                <a:latin typeface="Georgia"/>
              </a:rPr>
              <a:t>доказательства</a:t>
            </a:r>
            <a:endParaRPr b="0" lang="en-US" sz="35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94160" y="191628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1562b"/>
                </a:solidFill>
                <a:latin typeface="Times New Roman"/>
              </a:rPr>
              <a:t>Атавизм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632720" cy="364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сильев П.А.</dc:creator>
  <dc:description/>
  <dc:language>en-US</dc:language>
  <cp:lastModifiedBy>Никита</cp:lastModifiedBy>
  <dcterms:modified xsi:type="dcterms:W3CDTF">2011-03-17T17:11:27Z</dcterms:modified>
  <cp:revision>13</cp:revision>
  <dc:subject/>
  <dc:title>Направления эволюции</dc:title>
</cp:coreProperties>
</file>